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E1B-74A8-4B69-ABF6-B1A7B5BF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73D-EFAF-4567-A534-583286BC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0FA-A8C7-497C-A8E1-B3EDC6B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DFC-AEFC-46E7-95AD-C131084D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E0D-7BDD-4CCA-B205-1CC097C2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67E-F0E8-4ADC-9A61-CC78B6A5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93C-ED93-46F9-B5CE-AC42D3EA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9C8-A7A0-4F6C-AB57-F397E372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703-DE63-4CB1-8781-54A820EC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DDE-4F75-4A75-9185-DC1A393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9DC-8590-49D0-8531-8EA3F587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93A-F03D-487C-814D-440030B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5BB7-4DAD-4E99-9DF1-9DA2C6002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3E Residual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. Ex 3E, Q.2, 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3E, Q.5, 6, 7,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AS calculator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mbria"/>
              </a:rPr>
              <a:t>Once you have done the least-squares regression analysis on the Lists &amp; Spreadsheet page: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Move the cursor to the shaded cell in Column E and press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Ctr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MENU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4: Variabl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3: Link To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And select the list </a:t>
            </a:r>
            <a:r>
              <a:rPr b="0" i="1" lang="en-AU" sz="2200" spc="-1" strike="noStrike">
                <a:solidFill>
                  <a:srgbClr val="000000"/>
                </a:solidFill>
                <a:latin typeface="Cambria"/>
              </a:rPr>
              <a:t>stat?.resid. </a:t>
            </a: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The stat number will vary depending on your calculator and previously stored data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You can then plot the </a:t>
            </a:r>
            <a:r>
              <a:rPr b="0" i="1" lang="en-AU" sz="2200" spc="-1" strike="noStrike">
                <a:solidFill>
                  <a:srgbClr val="000000"/>
                </a:solidFill>
                <a:latin typeface="Cambria"/>
              </a:rPr>
              <a:t>stat.resid</a:t>
            </a:r>
            <a:r>
              <a:rPr b="0" lang="en-AU" sz="2200" spc="-1" strike="noStrike">
                <a:solidFill>
                  <a:srgbClr val="000000"/>
                </a:solidFill>
                <a:latin typeface="Cambria"/>
              </a:rPr>
              <a:t> against x-value by clicking on the y-axis label and selecting the residual list </a:t>
            </a:r>
            <a:r>
              <a:rPr b="0" i="1" lang="en-AU" sz="2200" spc="-1" strike="noStrike">
                <a:solidFill>
                  <a:srgbClr val="000000"/>
                </a:solidFill>
                <a:latin typeface="Cambria"/>
              </a:rPr>
              <a:t>stat.resi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 residual is the vertical difference between each data point and the regression lin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5" name="Picture 3" descr="Residual 1.jpg"/>
          <p:cNvPicPr/>
          <p:nvPr/>
        </p:nvPicPr>
        <p:blipFill>
          <a:blip r:embed="rId1"/>
          <a:stretch/>
        </p:blipFill>
        <p:spPr>
          <a:xfrm>
            <a:off x="571680" y="3143160"/>
            <a:ext cx="3817800" cy="2214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Residual 2.jpg"/>
          <p:cNvPicPr/>
          <p:nvPr/>
        </p:nvPicPr>
        <p:blipFill>
          <a:blip r:embed="rId2"/>
          <a:stretch/>
        </p:blipFill>
        <p:spPr>
          <a:xfrm>
            <a:off x="4714920" y="3286080"/>
            <a:ext cx="3500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o calculate the residuals for each data point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lculate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predicte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value of y from the regression equat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lculate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differenc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between this predicted value and the original valu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ad Worked Example 8 on p.130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3E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alculate the residuals by (y-y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mbria"/>
              </a:rPr>
              <a:t>pred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), i.e. the actual values minus the predicted valu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sum of all the residuals always add to zero (or very close to zero after rounding), when least-squares regression is us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Residual Analysi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y do we calculate residuals? Residuals give us more information about the type of regress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we plot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residual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gainst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original x-values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get a patter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ypes of residual plo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Content Placeholder 3" descr="residual plot 1.bmp"/>
          <p:cNvPicPr/>
          <p:nvPr/>
        </p:nvPicPr>
        <p:blipFill>
          <a:blip r:embed="rId1"/>
          <a:stretch/>
        </p:blipFill>
        <p:spPr>
          <a:xfrm>
            <a:off x="642960" y="221472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4357800" y="27147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Points of residual randomly scattered above and below x-axis. Original data probably lin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" name="Content Placeholder 3" descr="residual plot 2.bmp"/>
          <p:cNvPicPr/>
          <p:nvPr/>
        </p:nvPicPr>
        <p:blipFill>
          <a:blip r:embed="rId1"/>
          <a:stretch/>
        </p:blipFill>
        <p:spPr>
          <a:xfrm>
            <a:off x="642960" y="1714680"/>
            <a:ext cx="2666880" cy="197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786120" y="2143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Points of residual show curved pattern with a series of negative, then positive and back to negative residuals. Original data probably non-lin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residual plot 3.bmp"/>
          <p:cNvPicPr/>
          <p:nvPr/>
        </p:nvPicPr>
        <p:blipFill>
          <a:blip r:embed="rId2"/>
          <a:stretch/>
        </p:blipFill>
        <p:spPr>
          <a:xfrm>
            <a:off x="642960" y="4286160"/>
            <a:ext cx="266688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3857760" y="464328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Points of residual show curved pattern with a series of positive, then negative and back to positive residuals. Original data probably non-lin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 other words, if you see any sort of pattern in the residual plot, there probably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isn’t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 linear relationship in the original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5:11:28Z</dcterms:created>
  <dc:creator>08843474</dc:creator>
  <dc:description/>
  <dc:language>en-US</dc:language>
  <cp:lastModifiedBy>08843474</cp:lastModifiedBy>
  <dcterms:modified xsi:type="dcterms:W3CDTF">2011-03-14T06:12:34Z</dcterms:modified>
  <cp:revision>1</cp:revision>
  <dc:subject/>
  <dc:title>Introduction to Regression</dc:title>
</cp:coreProperties>
</file>